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73A7B-40E6-4486-B7F1-EA12B30C2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1D295-240C-49EB-AE0C-762C58F74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A206E-EAC2-4FD7-8490-2C951E4B8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F1579-0A47-4666-BBA9-D693A769F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F81A2-54C5-4995-8366-48E871E37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D4A7E-F0D9-4481-83A9-AABA8F1A4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7AA9F-7A7D-4B0E-B95E-24E932683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7576B-E58C-4D21-A04E-BC1408F74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EED76-18A2-46D0-BAC8-400461E36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D2FA0-6F67-4CAC-85DF-468BA3BF4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FB317-4F27-4BD6-AE35-FCF76CC96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1D945-2E48-4037-85A9-58224637C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5F70E-B0DC-499F-BC22-3B6E40DAB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B43AF-E718-4B0B-99EB-0DDE43E03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37F6F-FB67-4B5C-8647-40DC937AB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32583-A57C-4639-9E4E-4B02733A3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DA529-76B4-4A6A-81A0-55FEC16CD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6E37F-C6F4-420F-9728-98277DC19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6FACB-3AD1-4944-9C77-25A2571ED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6CF40-69F9-4870-8360-4EF79D611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6EF2E-8FB0-4900-B27E-84E89D9F9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31718-BB66-4381-8388-16E70A2B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1834B-E10F-4BA7-9EC9-F704B61A6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C07B2-9E12-4B99-AF52-C2A2BE336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245C-FEE5-4283-8D16-1C4EFEA3334B}" type="slidenum">
              <a:rPr b="0" lang="tr-TR"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F252-5B6D-415C-B357-D06088A0F75B}" type="slidenum">
              <a:rPr b="0" lang="tr-TR"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diyadinnet.com/YararliBilgiler-1488&amp;Bilgi=alan"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diyadinnet.com/YararliBilgiler-1378&amp;Bilgi=ve" TargetMode="External"/><Relationship Id="rId2" Type="http://schemas.openxmlformats.org/officeDocument/2006/relationships/hyperlink" Target="http://www.diyadinnet.com/YararliBilgiler-1565&amp;Bilgi=anatomi"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iyadinnet.com/YararliBilgiler-1488&amp;Bilgi=alan"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DUYU ORGANLARI</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İç kulak (Auris interna)</a:t>
            </a:r>
            <a:br>
              <a:rPr sz="2800"/>
            </a:br>
            <a:r>
              <a:rPr b="0" lang="tr-TR" sz="2800" spc="-1" strike="noStrike">
                <a:solidFill>
                  <a:srgbClr val="ffffff"/>
                </a:solidFill>
                <a:latin typeface="Tahoma"/>
              </a:rPr>
              <a:t>Çok karışık yapılardan oluşan ve önemli fonksiyonlar üstlenen kısımdır. Hepsi de temporal kemik içerisinde yer </a:t>
            </a:r>
            <a:r>
              <a:rPr b="0" lang="tr-TR" sz="2800" spc="-1" strike="noStrike" u="sng">
                <a:solidFill>
                  <a:srgbClr val="ffcc66"/>
                </a:solidFill>
                <a:uFillTx/>
                <a:latin typeface="Tahoma"/>
                <a:hlinkClick r:id="rId1"/>
              </a:rPr>
              <a:t>alan,</a:t>
            </a:r>
            <a:r>
              <a:rPr b="0" lang="tr-TR" sz="2800" spc="-1" strike="noStrike">
                <a:solidFill>
                  <a:srgbClr val="ffffff"/>
                </a:solidFill>
                <a:latin typeface="Tahoma"/>
              </a:rPr>
              <a:t> birbirinden ayrı üç kemik boşluktan meydana gelir. Bu kemik boşluklara kemik labirent (labyrinthus osseus) adı verilir. Kemik labirent üç bölümden oluşur. Oval pencerenin açıldığı kısma vestibulum denilir. Diğer ikisi ise cochlea (salyangoz kabuğu) ve semisirküler kanallar (canalis semisircularis osseus, kemik yarım daire kanalları)'dı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2" name="" descr="orta kulak iltihabi Orta Kulak İltihabı Hakkında Bilgiler "/>
          <p:cNvPicPr/>
          <p:nvPr/>
        </p:nvPicPr>
        <p:blipFill>
          <a:blip r:embed="rId1"/>
          <a:stretch/>
        </p:blipFill>
        <p:spPr>
          <a:xfrm>
            <a:off x="1042920" y="2060640"/>
            <a:ext cx="6842160" cy="381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run sağlığımız için;</a:t>
            </a:r>
            <a:br>
              <a:rPr sz="3200"/>
            </a:br>
            <a:r>
              <a:rPr b="0" lang="en-US" sz="3200" spc="-1" strike="noStrike">
                <a:solidFill>
                  <a:srgbClr val="ffffff"/>
                </a:solidFill>
                <a:latin typeface="Tahoma"/>
              </a:rPr>
              <a:t>• Burun kıllarını koparmamalıyız.</a:t>
            </a:r>
            <a:br>
              <a:rPr sz="3200"/>
            </a:br>
            <a:r>
              <a:rPr b="0" lang="en-US" sz="3200" spc="-1" strike="noStrike">
                <a:solidFill>
                  <a:srgbClr val="ffffff"/>
                </a:solidFill>
                <a:latin typeface="Tahoma"/>
              </a:rPr>
              <a:t>• Burnumuzu karıştırmamalıyız.</a:t>
            </a:r>
            <a:br>
              <a:rPr sz="3200"/>
            </a:br>
            <a:r>
              <a:rPr b="0" lang="en-US" sz="3200" spc="-1" strike="noStrike">
                <a:solidFill>
                  <a:srgbClr val="ffffff"/>
                </a:solidFill>
                <a:latin typeface="Tahoma"/>
              </a:rPr>
              <a:t>• Sigara içmemeliyiz.</a:t>
            </a:r>
            <a:br>
              <a:rPr sz="3200"/>
            </a:br>
            <a:r>
              <a:rPr b="0" lang="en-US" sz="3200" spc="-1" strike="noStrike">
                <a:solidFill>
                  <a:srgbClr val="ffffff"/>
                </a:solidFill>
                <a:latin typeface="Tahoma"/>
              </a:rPr>
              <a:t>• Ne olduğunu bilmediğimiz ya da kokusu keskin olan maddeleri koklamamalıyız.</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RUN AKINTISI</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Burun</a:t>
            </a:r>
            <a:r>
              <a:rPr b="0" lang="tr-TR" sz="3200" spc="-1" strike="noStrike">
                <a:solidFill>
                  <a:srgbClr val="ffffff"/>
                </a:solidFill>
                <a:latin typeface="Tahoma"/>
              </a:rPr>
              <a:t> akıntısının nedeni; nezle, saman nezlesi, sinüzit, müzmin nezle, alerjik </a:t>
            </a:r>
            <a:r>
              <a:rPr b="1" lang="tr-TR" sz="3200" spc="-1" strike="noStrike">
                <a:solidFill>
                  <a:srgbClr val="ffffff"/>
                </a:solidFill>
                <a:latin typeface="Tahoma"/>
              </a:rPr>
              <a:t>burun</a:t>
            </a:r>
            <a:r>
              <a:rPr b="0" lang="tr-TR" sz="3200" spc="-1" strike="noStrike">
                <a:solidFill>
                  <a:srgbClr val="ffffff"/>
                </a:solidFill>
                <a:latin typeface="Tahoma"/>
              </a:rPr>
              <a:t> iltihabı veya burna herhangi birşey kaçmış olmasıdır. Ayrıca kızamık başlangıcında da görülü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RUN KANAMASI</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Çeşitli nedenlerden kaynaklanan </a:t>
            </a:r>
            <a:r>
              <a:rPr b="1" lang="tr-TR" sz="2400" spc="-1" strike="noStrike">
                <a:solidFill>
                  <a:srgbClr val="ffffff"/>
                </a:solidFill>
                <a:latin typeface="Tahoma"/>
              </a:rPr>
              <a:t>burun</a:t>
            </a:r>
            <a:r>
              <a:rPr b="0" lang="tr-TR" sz="2400" spc="-1" strike="noStrike">
                <a:solidFill>
                  <a:srgbClr val="ffffff"/>
                </a:solidFill>
                <a:latin typeface="Tahoma"/>
              </a:rPr>
              <a:t> kanamalarına tıp dilinde epistaksis denir. Genç erkeklerde genellikle ergenlik dönemlerinde, genç kızlarda ise, çoğunlukla aybaşı kanamaları sırasında görülür. Bir de; yüksek tansiyonun neden olduğu </a:t>
            </a:r>
            <a:r>
              <a:rPr b="1" lang="tr-TR" sz="2400" spc="-1" strike="noStrike">
                <a:solidFill>
                  <a:srgbClr val="ffffff"/>
                </a:solidFill>
                <a:latin typeface="Tahoma"/>
              </a:rPr>
              <a:t>burun</a:t>
            </a:r>
            <a:r>
              <a:rPr b="0" lang="tr-TR" sz="2400" spc="-1" strike="noStrike">
                <a:solidFill>
                  <a:srgbClr val="ffffff"/>
                </a:solidFill>
                <a:latin typeface="Tahoma"/>
              </a:rPr>
              <a:t> kanamaları vardır. Gençlerde görülen ve önemli olmayan </a:t>
            </a:r>
            <a:r>
              <a:rPr b="1" lang="tr-TR" sz="2400" spc="-1" strike="noStrike">
                <a:solidFill>
                  <a:srgbClr val="ffffff"/>
                </a:solidFill>
                <a:latin typeface="Tahoma"/>
              </a:rPr>
              <a:t>burun</a:t>
            </a:r>
            <a:r>
              <a:rPr b="0" lang="tr-TR" sz="2400" spc="-1" strike="noStrike">
                <a:solidFill>
                  <a:srgbClr val="ffffff"/>
                </a:solidFill>
                <a:latin typeface="Tahoma"/>
              </a:rPr>
              <a:t> kanamaları çok kolay durdurulur ve korkulacak bir şey yoktur. Tansiyon yüksekliğinden kaynaklanan ve genellikle orta yaşlarda görülen </a:t>
            </a:r>
            <a:r>
              <a:rPr b="1" lang="tr-TR" sz="2400" spc="-1" strike="noStrike">
                <a:solidFill>
                  <a:srgbClr val="ffffff"/>
                </a:solidFill>
                <a:latin typeface="Tahoma"/>
              </a:rPr>
              <a:t>burun</a:t>
            </a:r>
            <a:r>
              <a:rPr b="0" lang="tr-TR" sz="2400" spc="-1" strike="noStrike">
                <a:solidFill>
                  <a:srgbClr val="ffffff"/>
                </a:solidFill>
                <a:latin typeface="Tahoma"/>
              </a:rPr>
              <a:t> kanamalarını durdurmak ise biraz zordu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RUN TIKANIKLIĞI</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rmal solunum, burundan yapılır. Kişi, burundan nefes almalı ve vermelidir. Spor yaparken, koşarken alınan hava yetmezse ağız da solunuma katılabilir.</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run tıkanıklığı, en sık karşılaşılan şikayetlerden biridir. Bir an için burnunuzu elinizle tıkarsanız, bu şikayetin, yaşam kalitesini nasıl azalttığını ve sıkıntı yarattığını anlayabilirsiniz.</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zı kişiler, burun tıkanıklığından çok rahatsız olmazlar ve önem vermezl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AN NEZLESİ</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rincisi, saman, alerjik bir şey değildir, dolayısıyla alerji meydana getirmez. Burun tıkanıklığına, kaşıntılı ve akıntılı buruna, burun ve boğazda fazla miktarda koyu akıntıya sebep olur fakat bu alerjik şikayetlere kendisi değil, havadan gelerek üzerine konan alerjik maddeler yol aça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az nezlesi de, bilinen virüslerin yol açtığı nezle gibi değildir. Havada bulunan alerjik maddelerin yol açtığı bir rahatsızlıkt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Rİ SAĞLIĞIMIZ</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ri sağlığımız için;</a:t>
            </a:r>
            <a:br>
              <a:rPr sz="3200"/>
            </a:br>
            <a:r>
              <a:rPr b="0" lang="en-US" sz="3200" spc="-1" strike="noStrike">
                <a:solidFill>
                  <a:srgbClr val="ffffff"/>
                </a:solidFill>
                <a:latin typeface="Tahoma"/>
              </a:rPr>
              <a:t>• Derimizi ezilme, kesilme ve yanmalardan korumalıyız.</a:t>
            </a:r>
            <a:br>
              <a:rPr sz="3200"/>
            </a:br>
            <a:r>
              <a:rPr b="0" lang="en-US" sz="3200" spc="-1" strike="noStrike">
                <a:solidFill>
                  <a:srgbClr val="ffffff"/>
                </a:solidFill>
                <a:latin typeface="Tahoma"/>
              </a:rPr>
              <a:t>• Vücudumuzu temiz tutarak deri üzerinde mikropların üremesine engel olmalıyız. Bunun için derimizin üstündeki kirleri ve ölü hücreleri, sık sık yıkanarak vücudumuzdan uzaklaştırmalıyız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L SAĞLIĞI </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l sağlığımız için;</a:t>
            </a:r>
            <a:br>
              <a:rPr sz="3200"/>
            </a:br>
            <a:r>
              <a:rPr b="0" lang="en-US" sz="3200" spc="-1" strike="noStrike">
                <a:solidFill>
                  <a:srgbClr val="ffffff"/>
                </a:solidFill>
                <a:latin typeface="Tahoma"/>
              </a:rPr>
              <a:t>• Ağız temizliğine önem vermeliyiz.</a:t>
            </a:r>
            <a:br>
              <a:rPr sz="3200"/>
            </a:br>
            <a:r>
              <a:rPr b="0" lang="en-US" sz="3200" spc="-1" strike="noStrike">
                <a:solidFill>
                  <a:srgbClr val="ffffff"/>
                </a:solidFill>
                <a:latin typeface="Tahoma"/>
              </a:rPr>
              <a:t>• Çok sıcak ya da çok soğuk yiyecek ve içeceklerden kaçınmalıyız.</a:t>
            </a:r>
            <a:br>
              <a:rPr sz="3200"/>
            </a:br>
            <a:r>
              <a:rPr b="0" lang="en-US" sz="3200" spc="-1" strike="noStrike">
                <a:solidFill>
                  <a:srgbClr val="ffffff"/>
                </a:solidFill>
                <a:latin typeface="Tahoma"/>
              </a:rPr>
              <a:t>• Alkol ve sigara kullanmamalı ve dilimize zarar verebilecek bazı kimyasal maddelerden uzak durmalıyız.</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cc"/>
                </a:solidFill>
                <a:latin typeface="Tahoma"/>
              </a:rPr>
              <a:t>DUYU ORGANLARI</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D:FURK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OYAD:TUNC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INIF:7/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O:76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yu Organları,vücudumuzun dış dünyaya açılmış pencereleridir.Gözümüzle görür. Kulağımızla duyar,Burnumuzla koklar, Dilimizle tat alırız.Duyu organları bir çeşit haber alıcılarıdır.Bu haberler, sinir yoluyla beyne ulaştıktan ve burada değerlendirildikten sonra bir anlam ifade ederl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UYU ORGANLARI</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ffffff"/>
              </a:solidFill>
              <a:latin typeface="Tahoma"/>
            </a:endParaRPr>
          </a:p>
        </p:txBody>
      </p:sp>
      <p:pic>
        <p:nvPicPr>
          <p:cNvPr id="94" name="" descr=""/>
          <p:cNvPicPr/>
          <p:nvPr/>
        </p:nvPicPr>
        <p:blipFill>
          <a:blip r:embed="rId1"/>
          <a:stretch/>
        </p:blipFill>
        <p:spPr>
          <a:xfrm>
            <a:off x="611280" y="1989000"/>
            <a:ext cx="813744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UYU ORGANLARIMIZIN SAĞLIĞI</a:t>
            </a:r>
            <a:endParaRPr b="0" lang="en-US" sz="40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yu organlarımızın sağlıklı kalabilmeleri için onları düzenli olarak kontrol ettirmeliyiz.</a:t>
            </a:r>
            <a:br>
              <a:rPr sz="3200"/>
            </a:br>
            <a:r>
              <a:rPr b="0" lang="en-US" sz="3200" spc="-1" strike="noStrike">
                <a:solidFill>
                  <a:srgbClr val="ffffff"/>
                </a:solidFill>
                <a:latin typeface="Tahoma"/>
              </a:rPr>
              <a:t>Göz sağlığımız için;</a:t>
            </a:r>
            <a:br>
              <a:rPr sz="3200"/>
            </a:br>
            <a:r>
              <a:rPr b="0" lang="en-US" sz="3200" spc="-1" strike="noStrike">
                <a:solidFill>
                  <a:srgbClr val="ffffff"/>
                </a:solidFill>
                <a:latin typeface="Tahoma"/>
              </a:rPr>
              <a:t>• Gözlerimizi temiz tutmalıyız. Başkalarına ait havlu ve gözlükleri kullanmamalıyız.</a:t>
            </a:r>
            <a:br>
              <a:rPr sz="3200"/>
            </a:br>
            <a:r>
              <a:rPr b="0" lang="en-US" sz="3200" spc="-1" strike="noStrike">
                <a:solidFill>
                  <a:srgbClr val="ffffff"/>
                </a:solidFill>
                <a:latin typeface="Tahoma"/>
              </a:rPr>
              <a:t>• Televizyonu uzun süre ve yakından izlememeliyiz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kuma sırasında gözlerimiz ile kitap arasındaki uzaklığın</a:t>
            </a:r>
            <a:br>
              <a:rPr sz="3200"/>
            </a:br>
            <a:r>
              <a:rPr b="0" lang="en-US" sz="3200" spc="-1" strike="noStrike">
                <a:solidFill>
                  <a:srgbClr val="ffffff"/>
                </a:solidFill>
                <a:latin typeface="Tahoma"/>
              </a:rPr>
              <a:t>20–35 cm olmasına dikkat etmeliyiz.</a:t>
            </a:r>
            <a:br>
              <a:rPr sz="3200"/>
            </a:br>
            <a:r>
              <a:rPr b="0" lang="en-US" sz="3200" spc="-1" strike="noStrike">
                <a:solidFill>
                  <a:srgbClr val="ffffff"/>
                </a:solidFill>
                <a:latin typeface="Tahoma"/>
              </a:rPr>
              <a:t>• Gözlerimizi aşırı ışıktan korumalıyız.</a:t>
            </a:r>
            <a:br>
              <a:rPr sz="3200"/>
            </a:br>
            <a:r>
              <a:rPr b="0" lang="en-US" sz="3200" spc="-1" strike="noStrike">
                <a:solidFill>
                  <a:srgbClr val="ffffff"/>
                </a:solidFill>
                <a:latin typeface="Tahoma"/>
              </a:rPr>
              <a:t>• Gözlerimizin görme yeteneğini artırmak için A vitamini içeren besinler yemeliyiz.</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ÖZ SAĞLIĞIMIZ </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1"/>
          <a:stretch/>
        </p:blipFill>
        <p:spPr>
          <a:xfrm>
            <a:off x="1042920" y="2349360"/>
            <a:ext cx="7056360" cy="45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ULAK</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lak (auris) işitme işlevini gören </a:t>
            </a:r>
            <a:r>
              <a:rPr b="0" lang="tr-TR" sz="3200" spc="-1" strike="noStrike" u="sng">
                <a:solidFill>
                  <a:srgbClr val="ffcc66"/>
                </a:solidFill>
                <a:uFillTx/>
                <a:latin typeface="Tahoma"/>
                <a:hlinkClick r:id="rId1"/>
              </a:rPr>
              <a:t>ve</a:t>
            </a:r>
            <a:r>
              <a:rPr b="1" lang="tr-TR" sz="3200" spc="-1" strike="noStrike">
                <a:solidFill>
                  <a:srgbClr val="ffffff"/>
                </a:solidFill>
                <a:latin typeface="Tahoma"/>
              </a:rPr>
              <a:t> denge organını içinde bulunduran </a:t>
            </a:r>
            <a:r>
              <a:rPr b="0" lang="tr-TR" sz="3200" spc="-1" strike="noStrike" u="sng">
                <a:solidFill>
                  <a:srgbClr val="ffcc66"/>
                </a:solidFill>
                <a:uFillTx/>
                <a:latin typeface="Tahoma"/>
                <a:hlinkClick r:id="rId2"/>
              </a:rPr>
              <a:t>Anatomik</a:t>
            </a:r>
            <a:r>
              <a:rPr b="1" lang="tr-TR" sz="3200" spc="-1" strike="noStrike">
                <a:solidFill>
                  <a:srgbClr val="ffffff"/>
                </a:solidFill>
                <a:latin typeface="Tahoma"/>
              </a:rPr>
              <a:t> yapıdır. Üç kısımda incelenir</a:t>
            </a:r>
            <a:br>
              <a:rPr sz="3200"/>
            </a:br>
            <a:r>
              <a:rPr b="0" i="1" lang="tr-TR" sz="3200" spc="-1" strike="noStrike">
                <a:solidFill>
                  <a:srgbClr val="ffffff"/>
                </a:solidFill>
                <a:latin typeface="Tahoma"/>
              </a:rPr>
              <a:t>Dış kulak</a:t>
            </a:r>
            <a:br>
              <a:rPr sz="3200"/>
            </a:br>
            <a:r>
              <a:rPr b="0" i="1" lang="tr-TR" sz="3200" spc="-1" strike="noStrike">
                <a:solidFill>
                  <a:srgbClr val="ffffff"/>
                </a:solidFill>
                <a:latin typeface="Tahoma"/>
              </a:rPr>
              <a:t>Orta kulak</a:t>
            </a:r>
            <a:br>
              <a:rPr sz="3200"/>
            </a:br>
            <a:r>
              <a:rPr b="0" i="1" lang="tr-TR" sz="3200" spc="-1" strike="noStrike">
                <a:solidFill>
                  <a:srgbClr val="ffffff"/>
                </a:solidFill>
                <a:latin typeface="Tahoma"/>
              </a:rPr>
              <a:t>İç kulak</a:t>
            </a:r>
            <a:r>
              <a:rPr b="0" lang="tr-T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Dış kulak (Auris externa)</a:t>
            </a:r>
            <a:br>
              <a:rPr sz="2800"/>
            </a:br>
            <a:r>
              <a:rPr b="0" lang="tr-TR" sz="2800" spc="-1" strike="noStrike">
                <a:solidFill>
                  <a:srgbClr val="ffffff"/>
                </a:solidFill>
                <a:latin typeface="Tahoma"/>
              </a:rPr>
              <a:t>İki kısımdan oluşur. Dışa doğru çıkıntı yapan kısmına kulak kepçesi (auricula) adı verilir. Kulak kepçesi sesin yönünün belirlenmesinde işlev görür. Burayı orta kulağa bağlayan kanal ikinci kısmı yapar ve dış kulak yolu (meatus acusticus externus) adını alır. Dıştan içe doğru uzanan bu kanal yaklaşık 2,5 cm kadardır ve S harfi şeklinde kıvrılmıştır. Kanalın bir kısmı kıkırdak diğer kısmı kemik yapısındadır. Kıkırdak kısım üzerinde tragi adı verilen kıllar vardı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Orta kulak (Auris media)</a:t>
            </a:r>
            <a:br>
              <a:rPr sz="2800"/>
            </a:br>
            <a:r>
              <a:rPr b="0" lang="tr-TR" sz="2800" spc="-1" strike="noStrike">
                <a:solidFill>
                  <a:srgbClr val="ffffff"/>
                </a:solidFill>
                <a:latin typeface="Tahoma"/>
              </a:rPr>
              <a:t>Yaklaşık 0,5 cm³ hacminde küçük bir boşluktur. İçinde hava ve 3 tane küçük kulak kemikçiği bulunur. Boşluğa östaki borusu aracılığıyla hava gelir. Boşluğun arka duvarı temporal kemik içerisinde yer </a:t>
            </a:r>
            <a:r>
              <a:rPr b="0" lang="tr-TR" sz="2800" spc="-1" strike="noStrike" u="sng">
                <a:solidFill>
                  <a:srgbClr val="ffcc66"/>
                </a:solidFill>
                <a:uFillTx/>
                <a:latin typeface="Tahoma"/>
                <a:hlinkClick r:id="rId1"/>
              </a:rPr>
              <a:t>alan</a:t>
            </a:r>
            <a:r>
              <a:rPr b="0" lang="tr-TR" sz="2800" spc="-1" strike="noStrike">
                <a:solidFill>
                  <a:srgbClr val="ffffff"/>
                </a:solidFill>
                <a:latin typeface="Tahoma"/>
              </a:rPr>
              <a:t> mastoid hava hücrelerine (cellulae mastoideae) açılır. Birbiri ile eklemleşen üç kemik timpan zarına çarpan ses dalgalarının amplıtüdünü yükselterek, iç kulaktaki sıvıya iletirle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2:03:07Z</dcterms:created>
  <dc:creator>furkantuncer</dc:creator>
  <dc:description/>
  <dc:language>en-US</dc:language>
  <cp:lastModifiedBy>furkantuncer</cp:lastModifiedBy>
  <dcterms:modified xsi:type="dcterms:W3CDTF">2011-01-11T05:02:58Z</dcterms:modified>
  <cp:revision>4</cp:revision>
  <dc:subject/>
  <dc:title>DUYU ORGANLARI</dc:title>
</cp:coreProperties>
</file>